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5C9-3C90-455B-806D-7BD48744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C3B-558F-43FA-9926-CD03DD96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A54-CF18-44C1-8B36-0260EC23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134-0EE8-4CB6-9C66-8ABDA795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BBA4-07EB-40D3-A4F8-C71378D6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63A6-FC99-4199-ABA1-957B57B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E03A-86EE-4594-9A6E-C7D1EBAA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BD59-232D-41BE-93B0-2CA0858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05C-2539-4318-9948-741ADDA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1B82-7E83-4F03-B9A3-093086E0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5B4B-54BD-4C03-A235-FDFA8B0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4BA-39A3-4054-BF76-F903908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76D8-DB4A-449D-A2EC-1C8389E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B818-D02E-431C-A22F-BE1C627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D1E1-3AB7-4E97-AE12-9C74B222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07C9-F78E-47E5-96D7-1CB7DE66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52E-EAE1-4148-8208-AA3B3DA2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BB2F-DDE1-4BE4-962B-77A40B31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FBA5-8162-45B7-84C8-54ED26E5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16BCA-0D74-4FE7-B8FD-73D213DA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D9B0-DB18-4135-A25A-A7234AFE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66AF-1ADD-495D-8DE8-9A03E8E0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C36-1690-4345-9E6C-313024C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F194-BEDB-4151-8E34-B54EBAE3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647E-E0C1-478F-ABD9-7A35E4A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3E12-F41E-4694-9B8D-7B64B23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09BB-A861-4965-93DB-AEC054D5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0D7F-3346-425E-88E7-FDA3886E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9B8C-4CC6-42C2-8F08-C018AC5B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F76A-7BFA-4978-B582-19246950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1705-9709-4E29-A110-CFB35AD8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83C0-F5C0-449E-BD35-3C8C0518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3ED4-5887-4C0B-891C-855F50C2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739-707F-4DCA-9475-1288EA6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FF62-3B34-4FAD-92C3-E170C26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834E7-CD88-48F4-9F0B-864029B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5570-12DD-4C32-B673-98F1D718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6253-3738-4B40-90C5-1FC4CF8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75C3-FD40-42BD-852D-39EBEB30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CD59-1046-4428-835A-5E7033D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5BCF1-B4D9-4730-A775-158FDEE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3666-25F0-47C0-86A9-44A37B12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A2A3-BD94-4A0E-AD5A-45032CB2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39EE7-DA16-47E9-8D99-8CA975C9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F59-7D53-4221-BA23-CD4343E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DCB1-D764-49B9-BABA-797BB1C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C260-5145-41C4-A27C-1E3FB993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E5DA-E396-4426-8214-19AC0F15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1EACF-2595-4440-A606-E06EDE61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10BF-DB32-4E27-8B42-B6B45BB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3B3C-91B7-4BC5-8BAF-302A328D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59A9-5909-45E2-BBB9-EB984B8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05E8B-A27D-41E0-B2CA-917C6311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9978-7941-459B-AEE9-AEA476C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1B32-CF42-4B3F-A61E-BB8E2050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CE6-7B19-4F42-ACAF-C739C7BC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02ED-122E-484C-ADB0-531FF347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C97C-9E9B-476E-882E-BA7B8F76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C1AC-B224-4F2E-AAD6-EF3396C1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1EC17-DA6C-45D6-B5EA-33C29C8E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406B-FDEF-4C79-82E5-25F5744C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3511-07D9-45DC-85C1-465A8A9B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493B4-16ED-45DC-8887-F04E797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E07D-740C-4422-8BB0-7DB6824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CE63-3466-4438-ACC4-6E3DFC1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FBAA-EE97-4A0D-AB46-11F9651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414-CCCE-4189-88C3-D359279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B9EE8-D237-4CF5-B4E8-D6D3AC15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4377-0D1C-483E-AB2C-71A13F00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583B7-872A-4697-AA8C-98ED8832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F9E1-96D9-48B1-BE69-DDBA43BF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EA791-4D30-4C7E-ACA2-DF78184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EB114-58B1-472D-845E-EF8BEB5E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49FF-8464-44A6-B57D-2D343FC3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D2A64-E6DC-443A-AFD5-83AD2B9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1C39C-5454-4602-848A-4AB91CC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FBB1-CC68-4B8D-A682-A7A3EC63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F55-E9FF-4AA2-9DF9-0B00077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13A1E-31B6-46E3-A2FF-993950D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379A8-A4B5-4DAC-8F75-E8F751B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2CC9-D70B-4EAD-BAB9-0831A6BB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83B23-B234-404B-A405-B25EB008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81B10-5283-46A6-BE50-63D1E1E2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4BE-688A-4E1B-91B0-D955A2C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70B-3C8A-4C1B-98B7-D2AB6CB0C9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178C-E353-4A5B-B086-63349809BF89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2472-C90E-4FE0-839A-22A95890AE2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152E-6EC4-41FC-AAC6-A56A3E23E4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FAA-E7BE-46C3-847B-09A6F7F57C4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BACA-0751-49A3-83AE-130D13FABB9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B05-8FCE-4FA9-86A6-5CD27B9DD0F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orfo.ru/" TargetMode="External"/><Relationship Id="rId3" Type="http://schemas.openxmlformats.org/officeDocument/2006/relationships/hyperlink" Target="http://www.ypoku.ru/rya_gram1.html" TargetMode="External"/><Relationship Id="rId4" Type="http://schemas.openxmlformats.org/officeDocument/2006/relationships/hyperlink" Target="http://banklawyer.narod.ru/Russkuyzuk/00002P.htm" TargetMode="External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530280" y="536400"/>
            <a:ext cx="8205840" cy="1730520"/>
          </a:xfrm>
          <a:prstGeom prst="rect">
            <a:avLst/>
          </a:prstGeom>
          <a:ln w="0">
            <a:noFill/>
          </a:ln>
        </p:spPr>
      </p:pic>
      <p:pic>
        <p:nvPicPr>
          <p:cNvPr id="314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663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just">
              <a:spcBef>
                <a:spcPts val="400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усский язык: учеб. Для 5 кл. общеобразоват. Учреждений / [Т. А. Ладыженская, М. Т. Баранов, Л.А. Тростенцова и др.]. – 35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spcBef>
                <a:spcPts val="400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усский язык. Теория. 5 -9кл.:  учебник для общеобразоват. учреждений / В.В. Бабайцева, Л.Д. Чеснокова, М.: Дрофа-2009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http://www.orfo.r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http://www.ypoku.ru/rya_gram1.htm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4"/>
              </a:rPr>
              <a:t>http://banklawyer.narod.ru/Russkuyzuk/00002P.htm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От чего зависит грамотность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536400" y="596880"/>
            <a:ext cx="8071200" cy="860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Схема 4" descr=""/>
          <p:cNvPicPr/>
          <p:nvPr/>
        </p:nvPicPr>
        <p:blipFill>
          <a:blip r:embed="rId2"/>
          <a:stretch/>
        </p:blipFill>
        <p:spPr>
          <a:xfrm>
            <a:off x="1511280" y="1414440"/>
            <a:ext cx="6205680" cy="410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Формирование орфографической грамот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530280"/>
            <a:ext cx="84376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536400" y="-12600"/>
            <a:ext cx="8302680" cy="1469880"/>
          </a:xfrm>
          <a:prstGeom prst="rect">
            <a:avLst/>
          </a:prstGeom>
          <a:ln w="0">
            <a:noFill/>
          </a:ln>
        </p:spPr>
      </p:pic>
      <p:pic>
        <p:nvPicPr>
          <p:cNvPr id="324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3554280"/>
          </a:xfrm>
          <a:prstGeom prst="rect">
            <a:avLst/>
          </a:prstGeom>
          <a:ln w="0">
            <a:noFill/>
          </a:ln>
        </p:spPr>
      </p:pic>
      <p:pic>
        <p:nvPicPr>
          <p:cNvPr id="325" name="Схема 4" descr=""/>
          <p:cNvPicPr/>
          <p:nvPr/>
        </p:nvPicPr>
        <p:blipFill>
          <a:blip r:embed="rId3"/>
          <a:stretch/>
        </p:blipFill>
        <p:spPr>
          <a:xfrm>
            <a:off x="1517760" y="1378080"/>
            <a:ext cx="6565680" cy="48765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5"/>
          <p:cNvSpPr/>
          <p:nvPr/>
        </p:nvSpPr>
        <p:spPr>
          <a:xfrm>
            <a:off x="0" y="-523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41736 0.58079 E">
                                      <p:cBhvr>
                                        <p:cTn id="19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Корни, в которых чередуются гласн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Правила правописания этих корне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2 недел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3 урока по 40 мину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67920" cy="1407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Формулировка и выбор тем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Поиск информаци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Самостоятельная работа учащихс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Защита проек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Подведение итог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6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05:11Z</dcterms:created>
  <dc:creator>евгения</dc:creator>
  <dc:description/>
  <dc:language>en-US</dc:language>
  <cp:lastModifiedBy>евгения</cp:lastModifiedBy>
  <dcterms:modified xsi:type="dcterms:W3CDTF">2010-04-07T18:11:24Z</dcterms:modified>
  <cp:revision>38</cp:revision>
  <dc:subject/>
  <dc:title>Правописание корней с чередующимися гласными.</dc:title>
</cp:coreProperties>
</file>